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7880" y="4130640"/>
            <a:ext cx="778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4520" y="413064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08400" y="198108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77880" y="413064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08400" y="413064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38920" y="4130640"/>
            <a:ext cx="2504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4520" y="413064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6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7880" y="4130640"/>
            <a:ext cx="778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8567280" y="657216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46C-810E-4329-A54C-6B6034F64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Let Data Types Work For You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ock the hidden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ndards and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Mapping Function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/Internal always invoked when field may be entered on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/External always invoked prior to displaying or printing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re-displaying on error, Internal/External is invoked and must be capable of dealing with data in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have external value, internal value, and mapping data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External/Internal Function Requirement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 to “*Field Attribute Types”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ot be EXTFUN function (gen will fa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INTFUN that calls EXT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te inpu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 error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Return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External/Internal Function Requirements cont’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value-mapping, convert from external to internal format (this must be done even if there is an err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data loss occurs on mapping and there is an error, pass error indicator in internal format rather than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EXCUSRSRC or EXCUSRPGM if a routine is large and called often, particularly in the same function.  This will reduce generated c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External/Internal Function Standard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 or Both (usually input; use both if defaulting a 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 as NBR, CDE, or 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first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or Both (usually output; use both if constructing a 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 as NBR, CDE, TXT or data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second parameter if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required if function only validates (no value mapp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External/Internal Function Mapping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Mapping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usage va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use Neither parms for work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required unless validation or mapping based on an additional piece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be used to merge multiple fields on screen into a single field on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nternal/External Function Requirement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 to "*Field Attribute Types"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ot be EXCEXTFUN (gen will fa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EXCINTFUN that calls EXCEXT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from internal to external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nternal/External Function Requirements cont’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data loss occurs on external/internal mapping and there is an error, test for error indicator in internal format (rather than mapping) and merely exit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EXCUSRSRC or EXCUSRPGM if a routine is large and called often, particularly in the same function.  This will reduce generated c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nternal/External Function Standard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or Both (usually output; use both if constructing a 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 as NBR, CDE, or 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first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 or Both (usually Inp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 as NBR, CDE, TXT or data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second parameter if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required if function only validates (no value mapp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nternal/External Function Mapping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Mapping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usage va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use Neither parms for work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required unless mapping based on an additional piece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be used to put data from a single database field into one or more fields on display or printed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Supplying Mapping Function Additional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ault context and source specified at file entry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be locked to prevent device level overr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allow device level overr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require device level overr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ed/Special contexts for def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ther field in the same format as the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ndition value of a field in the same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andard 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andard 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 context and source specified at device entry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User Defined Data Typ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hould I build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Definition Scre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Length Calculat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ping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Mapping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Accessing Mapping Parameters at File Entry Level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SYNVG      WISRMT1S1   2/23/92 22:17: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LE ENTRIES                     Test1 Model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le . . . . . . : test zip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? Field                    Attr      Ocr  Et Ksq GEN name   Length   Renamed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st zip id               CDE           K    1 EMCD           6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ountry Cd                CDE           A      EKCD           3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 test zip code             ZIP           A      AEZI          10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st date                 DT8           A      AED8           8.0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SEL: Z-Details, R-Replace field, U-Usage, M-Mapped field parameters.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Specifying Mapping Parameters at File Entry Level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                       2/23/92 22:18: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MAPPING FUNCTION PARAMETERS.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le . . : test zip                   Field. . : test zip code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(N-Fixed       )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(Y-Overridable )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(R-Ovr required)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Parameter                   Ctx Field                     Permit override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ountry Cd                  FIL Country Cd                    Y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Accessing Mapping Parameters at Device Entry Level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SYNVG      WISRMT1S1    2/23/92 22:21: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SCREEN ENTRY DETAILS            Test1 Model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name . . . . . . : test zip code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GEN name . . . . . . . : AEZI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abel location . . . : B (Above,Before,Column,blank)  Label spacing. : 13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ines before . . . . :   1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Spaces before. . . . :   1               Screen text. . . . : F (M, L, F)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olumn Headings. . . : test zip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ode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eft hand side text. : test zip code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ight hand side text : ZIP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isplay RHS text . . : Y  RHS spaces . . . . :   2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ll LHS text. . . . : Y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/O Usage. . . . . . : I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heck condition. . . : *NONE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blank. . . . . : Y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exit option. . :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, no update  F7=Relations  F9=Mapping parameters  F18=Screen attr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Specifying Mapping Parameters at Device Entry Level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                       2/23/92 22:21: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SCREEN FIELD MAPPING PARAMETERS.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ormat. . . : Detail format 1.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. . . :  test zip code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Parameter                   Ctx Field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ountry Cd                  DTL Country Cd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8-Digit Date data type (DT8)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field attributes are f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input and displays output in MMDDCCYY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ternally in CCYYMMDD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leap years and century non-leap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DT8 Attribute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*CHANGE                           Op: SYNVG      WISDM395A   2/10/92 13:09: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ELD ATTRIBUTE.                 Test1 Model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attribute. . . . : DT8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xt . . . . . . . . . : 8-Digit Date:  int-CCYYMMDD  ext-MMDDCCYY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ight hand side text . :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user   Initial      Allowed      Override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ntry      value        values       value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data type . . :  O (I,O,H)   P           (A,P,S,B,F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length. . . . :  O (I,O,H)       8.0      -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data type . . :  -           S           (A,S)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length. . . . :  O (I,O,H)       8.0      -                  (Outpu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Keyboard shift . . . . :  I (I,O,H)                DYN         (XANWIDM/NSYI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owercase. . . . . . . 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heck valid system name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andatory fill . . . . 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odulus check 10/11. . :  H (I,O,H)               (10,11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value mapping. . :  N (Y,N)     Y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len conv. . :  -           I           (I,C,V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function. . :  Convert DT8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/int function. . :  Check DT8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F11=Delete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Zip Code data type (ZIP)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field size is 12 characters; Internal field size is 10 characters; All other attributes are also fix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ping functions are EXCEXTFUN called by EXCINTFUN to allow changes or new formats with minimum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Zip Code data type (ZIP) cont’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format dependent on format specified by cou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 format: 5 or 9 digits are required with or without separator character of space or d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adian format: 6 alphanumeric characters are required with or without separating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format: up to 10 charac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format dependent on cou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 format: 5 digits or 5+4 digits with separating d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adian format: 3+3 characters with separating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format; as en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Zip Code data type (ZIP) cont'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 or Canadian format: left justified, separators rem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format: as en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ry Code is specified as additional mapping parameter on mapping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for Country Code is determined at the file level and is l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ping functions read Country file to get ZIP code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Zip Code data type (ZIP) cont'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ping functions read System Control file to get default Country if input parameter is blank or in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internal values identified for error reporting to prevent data loss when excess characters are en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Why should I define a Data Type?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force basic definition of fields that are of the same type but not of the same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de and enforce data mapping processes - conversion of data from stored format to presented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force basic data integr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rapid and consistent specification of data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default data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ZIP Attribute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*CHANGE                           Op: SYNVG      WISDM395A   2/10/92 13:09:3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ELD ATTRIBUTE.                 Test1 Model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attribute. . . . : ZIP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xt . . . . . . . . . : Zip code data Type (requires Country)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ight hand side text . : ZIP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user   Initial      Allowed      Override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ntry      value        values       value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data type . . :  O (I,O,H)   A           (A,P,S,B,F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length. . . . :  O (I,O,H)      10        -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data type . . :  -           A           (A,S)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length. . . . :  O (I,O,H)      12        -                  (Outpu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Keyboard shift . . . . :  O (I,O,H)   A            XANWIDM     (XANWIDM/NSYI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owercase. . . . . . . :  O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heck valid system name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andatory fill . . . . 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odulus check 10/11. . :  H (I,O,H)               (10,11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value mapping. . :  N (Y,N)     Y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len conv. . :  -                       (I,C,V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function. . :  Convert Zip Int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/int function. . :  Check zip Int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F11=Delete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Credit Card Number data type (CC#)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us and type-to-number checking deemed unnecessary at our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field size is 19 characters; Internal field size is 16 charac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format allows entry of up to 16 numeric digits in any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format is four 4-character segments with a space separator for rea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Credit Card Number data type (CC#) cont’d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 format is all digits entered left-justified with separators r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internal values identified for error reporting to prevent data loss when excess characters are en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CC# Attribute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*ADD                              Op: SYNDSNR    WISRMT2S1   1/26/92  8:52: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ELD ATTRIBUTE.                 Windsor, Inc.  WISDMMDL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attribute. . . . : CC#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xt . . . . . . . . . : Credit Card Number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ight hand side text . :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user   Initial      Allowed      Override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ntry      value        values       value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data type . . :  O (I,O,H)   A           (A,P,S,B,F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length. . . . :  O (I,O,H)   16           -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data type . . :  -           A           (A,S)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length. . . . :  O (I,O,H)   20           -                  (Outpu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Keyboard shift . . . . :  O (I,O,H)   M            XANWIDM     (XANWIDM/NSYI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owercase. . . . . . . 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heck valid system name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andatory fill . . . . :  O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odulus check 10/11. . :  H (I,O,H)               (10,11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value mapping. . :  N (Y,N)     Y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len conv. . :  -                       (I,C,V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function. . :  CONVERT CREDIT CARD #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/int function. . :  CHECK CREDIT CARD #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Rate Per Thousand data type (RPT)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er defined Internal length and dec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version programs calculates External length and dec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s entry of price in rate per thousand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and prints as price in rate per thousand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format is stored as rate per unit to allow per unit pricing calc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number of internal decimals required and en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 place of Derived fields for name formatting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multiple fields of different sizes to be constructed all using the same action dia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parameters values supplied to function to be changed at the device level rather than visiting action dia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al/External conversion routin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Julian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MDDYY Externally, number of days since base date Intern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date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96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deas for Data Typ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deas for Data Types, Jr.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th Century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MDDYY Externally, YYMMDD (no century) Intern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or birthdates not requiring century (DT8)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-Spacing routine for user supplied report hea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 user to specify report heading in XXXbXXX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rt to XbXbXbbbXbXbX format upon pri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deas for Data Types III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Standard data types to simplify shop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y provide adequate default sizes for new fi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s requirements for field sizes to be modified upon cre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percentage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 entry as whole number 75 (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 as decimal number .75 for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Ideas for Data Types IV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Path  control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field on all screens that allows "fast pathing" through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d34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 and data could be parsed out of a character string and returned to a driver program to determine next 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Object Attributes Display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SYNDSNR    WISRMT2S1   1/26/92  8:52:0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ISPLAY OBJECT ATTRIBUTES            Windsor, Inc.  WISDMMDL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bject type. . . : FLD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&lt;== Position display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?  Attr  Description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DE  Alphameric code value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YY  Century Year - int:CYY  ext:YY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MD  Date in month/day format.  MM/DD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MY  Date in month/year format.  int-YY/MM  ext-MM/YY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TB  Birth Date format.  Like DTE but 1900 - 1999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TE  Date in system date format - (YYMMDD internally)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DT8  8-Digit Date:  int-CCYYMMDD  ext-MMDDCCYY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GC  Ideographic text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NAR  Narrative text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NBR  Pure numeric value (eg line number).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PCT  Percentage or market index.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PRC  Price or tarrif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QTY  Quantity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EF  Field is based on another field.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SGT  Surrogate (number representing an object)                            +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SEL: N-Narrative, Z-Details.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F9=Add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Field Attribute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*ADD                              Op: SYNDSNR    WISRMT2S1   1/26/92  8:52: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ELD ATTRIBUTE.                 Windsor, Inc.  WISDMMDL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attribute. . . . : CC#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Text . . . . . . . . . : Credit Card Number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ight hand side text . :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user   Initial      Allowed      Override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ntry      value        values       value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data type . . :  O (I,O,H)   A           (A,P,S,B,F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length. . . . :  O (I,O,H)   16           -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data type . . :  -           A           (A,S)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length. . . . :  O (I,O,H)   19           -                  (Output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Keyboard shift . . . . :  O (I,O,H)   M            XANWIDM     (XANWIDM/NSYID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Lowercase. . . . . . . 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Check valid system name:  H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andatory fill . . . . :  O (I,O,H)    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odulus check 10/11. . :  H (I,O,H)               (10,11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value mapping. . :  N (Y,N)     Y           (Y,' ')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len conv. . :  -           V           (I,C,V,' ')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/ext function. . :  CONVERT CREDIT CARD #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/int function. . :  CHECK CREDIT CARD #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Field Attribute Default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987200"/>
            <a:ext cx="7767360" cy="410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d34a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Op: SYNVG      WISDM395A   2/10/92 13:09:3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DIT FIELD ATTRIBUTE DEFAULTS.        Test1 Model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ttribute. . . . : ZIP Zip code data Type (requires Country)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Internal length. . . . . :    10      Data type . . . . : A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External length. . . . . :    12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Mnemonic code. . . . . . : ZI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Allow lower case . . . . :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Courier New"/>
              </a:rPr>
              <a:t>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Keyboard shift . . . . . : A  (XANWIDM)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ield exit options . . . :     (Blank = Not required, Y = Required,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Z = Right adjust, fill with zeroes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B = Right adjust, fill with blanks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R = Right-to-left)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</a:rPr>
              <a:t>F3=Exit  F9=Full details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Additional Data Type Component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Length convers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pping/validation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to internal format con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to external format con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YxxxLENR1C Function Requirement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ulate External Inte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ulate External Dec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ulate External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minimum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echanism for flagging erroneous internal siz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created before Data Type can be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xx is the ID of the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34a"/>
                </a:solidFill>
                <a:latin typeface="Times New Roman"/>
              </a:rPr>
              <a:t>YxxxLENR1C Parameters</a:t>
            </a:r>
            <a:endParaRPr b="0" lang="en-US" sz="42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880" y="1981080"/>
            <a:ext cx="778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425680"/>
            <a:ext cx="3429720" cy="21038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bject attribut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eyboard shif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lue mapped statu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data typ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leng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no. of integer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no. of decimal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ternal data typ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D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67920" y="5046840"/>
            <a:ext cx="3460320" cy="9205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rnal leng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rnal no. of integ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rnal no. of decimal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6T01:02:28Z</dcterms:created>
  <dc:creator>Virgil Green</dc:creator>
  <dc:description/>
  <dc:language>en-US</dc:language>
  <cp:lastModifiedBy>Virgil Green</cp:lastModifiedBy>
  <cp:lastPrinted>1995-11-16T01:02:00Z</cp:lastPrinted>
  <dcterms:modified xsi:type="dcterms:W3CDTF">1998-06-11T11:56:56Z</dcterms:modified>
  <cp:revision>8</cp:revision>
  <dc:subject/>
  <dc:title>Let Data Types Work For You</dc:title>
</cp:coreProperties>
</file>